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6ADC-CAD4-40DF-A65F-BB1D275E86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0936-9DC4-4089-9E89-5884A79CD3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34B8-1673-4EAB-BCAE-FD49BCE367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6C79-CCA3-4A31-8E6B-484D167577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E73A1-0218-440E-83A7-3CE8204839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2C78464-DB07-4BF0-9667-1E2FC1A0F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F481B3AC-CBE6-45A4-BE7A-2EFBA39B6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E558EB96-E779-4D8C-BFA9-673E31562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54E8F42-CC1D-4515-B013-F037AB2BC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3594E6-7084-4FDD-B106-B56C99755EB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3275E82-F27D-4637-A2CA-4AFC3D72C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4C6F647-F321-47A7-8C51-066F86C8C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B500DD5-42D6-4823-BE22-471A8B7D1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889F70DA-B243-433D-94D6-E9A804531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E99A042-8026-4EDB-ADE8-5F4A4609E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C18D8859-0EDE-4B3A-A408-A6E1D844A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C503400-7776-422E-9D42-19B66CC8D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979A43C-1B28-46C5-B4BF-83F456D9E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D322DD7-FBBF-4970-9AB2-BE77854B1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7B227772-D1BA-400A-A8EF-6E8CE96A8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B034E092-3322-4A4C-8F36-6571D957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2C5075F8-7214-4C4A-B634-A74AB90805E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4D501F6-1DFC-4529-8EF4-459D719207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184F71-4F16-4D14-98AC-8F59DF0E38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731BE3-4587-4D3B-A9F8-6C82CF7DEF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82A1309-7A80-4144-BD5E-885E49038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64AAFC-BF28-4061-B9B4-F6F725CFB1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C3B725F-9791-44A2-8AF2-7F85391A59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1D35A4-AB43-41D7-8979-139B04ED3A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7DE9B7-0275-437A-A015-847B26DDA9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48C945-093A-41E5-A6E7-32842A775C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5AC172-A919-4E38-B902-C07950D882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D96A4A-F560-4A0C-B5A3-0D0FD59BE6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A0A736B-2B32-44B7-8409-FF2BB4DE71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5751459-E825-4AD9-B3A2-FFCFC0763C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50BD874-DBA5-44B2-8050-208A6253464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742DC697-EA22-4036-AAC5-352A6C5D8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B937D83-A9B0-4A98-BA18-AB71F61DCA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1A5A3C-A6ED-4C5D-AE56-D43C8A31B02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6ECCB21-8EE3-4E44-A9D9-98DA0BEC20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3C4A1CC-BB5B-4509-B6CE-ED102A2BD4E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CB03D5-BCE9-4B07-BF46-E9112C9488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4AFA5B-661A-4EE5-8600-2EDCE739B40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1C5200-D4C0-40A7-BE84-8878FC18B8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1A3B16-8706-47CB-958A-B30B3CEDD1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D9BD915-3C15-46B5-AFDC-DE93F34E83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E31810B-87F1-4B2F-9649-F0F2B3F88D0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9DA04D50-D8BC-4C68-B379-F01490FC6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604D045-BB7A-45D6-81E4-8EB1CBEA97F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DFACC7F-31AF-4112-8E29-63892360C1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B15A030-95EE-4BB8-AE79-AF4CF32808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0882AE6-8E08-43A9-82CA-229094BF11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0B5AD7C-4534-4F3E-BD7F-8F0B9232D2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0DF8E7C-5DDC-49D1-B5F2-4DA4B205B5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3EFCE3B-BD4D-49C9-BE11-2521FB1155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BB1B95-B1C4-4508-8AC1-EF5889C4B7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42021C-0579-4E53-BB57-FA9BCC0893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2FAAFF-AED7-4C53-81D6-995F435550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347C7C6-E7D3-4E88-B6F2-BF7F82DE0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8BA96F-2CD8-450D-8D00-27C0DC17CE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9F35AA-9575-48E9-AEE5-5C2C3C38BC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9039D5A-A6D5-4A21-B680-7171FFCC9FD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2EC0D9E-BE71-4859-A31A-978511D1B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08665F6-0101-4E35-97D3-9180F9DAD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9A00-BAE3-41CE-848F-50DAD2EF8A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66B1-A98E-4182-878D-60FBA239DA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5E1E-F79B-4658-A4FB-86ABCBF678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B72A-2A24-44FA-979A-19D2FB7703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12BD-BC5B-4D43-AB89-4C256D5550A0}"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197F-53BE-4D5B-9369-A88658B06E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CD16-7556-41EC-ACEF-3BCB367A4AA5}" type="datetime">
              <a:rPr b="0" lang="zh-CN" sz="1000" spc="-1" strike="noStrike">
                <a:solidFill>
                  <a:srgbClr val="ffffff"/>
                </a:solidFill>
                <a:latin typeface="Verdana"/>
                <a:ea typeface="宋体"/>
              </a:rPr>
              <a:t>26/7/30</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E29A-9591-4437-9574-D4A9FEE6958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4FEF-61ED-44A7-91B9-998377F677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ECE3-18A8-46E4-A163-D5BD71A95D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A041-9E4B-4ECC-87E8-61772D831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8C32-214B-4817-B601-5E792CE3FB8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B5D8-2CE9-4615-B083-4C118B0DC0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E20D-76C6-4E28-BE23-FF032C35AA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1D2A-617C-4E22-93FF-3ED634791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DE3A-7F79-4619-BD9D-7CA5256287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3B10-0C0D-4B36-87A8-6EB25F1E83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89DB-2BBB-47DD-961A-F01273A61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DCD5-27C3-4D1C-95A4-4DF161A92F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645B-C285-479A-83F2-B2374974E0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EE70-A3D7-4D5C-BBF6-AD9D3E2A7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A7D6-5AF0-42CF-8FC8-092B68F294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1F98-EBD5-45CB-9B8E-0D63532DD8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2D86-B77A-46C0-B527-47CCC4FF5B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096B-9775-4F69-B0B7-E867EF6960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4AED-98C0-43F3-8328-32B90BC8A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2882-FAEA-431D-A3CF-CFB1A0F9C53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4AB6-87A7-4CB1-9069-901AC43D28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BAEB-A3DB-4002-BF36-D092EB879D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685B-FDBB-4ABE-8A12-45D6B1DDF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598B-1534-41FD-9776-8708CE71C9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7EF8-18F9-4F0E-9841-A6F2C4B87F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3092-536D-496F-8278-3BF1B656B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3410-539A-47DF-B216-97B8599D4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DF2E-9618-4260-980F-63EECE1558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9115-954E-42D4-8C14-87A3033916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51E8-FCCB-4CC3-B4F2-1B8B03E3BC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C296-E3D2-4DF0-BC46-751FDFE04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8F1E-85C1-457A-959C-37B22A95BE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293E-B5AB-40F1-BE70-BBA6A022F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D0C0-9815-4A0C-8A2D-99E16742CD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5E11-A07F-4B0E-8E41-FBD0BF9EE2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AC03-18AF-4C88-9A11-F0C8D45CB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6C49-DB81-4E39-82F8-B126ADF92C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C408-0CA3-4C1D-84FC-1D16E3729C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6683-63D9-499D-BB4A-599CC3ED0F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ABAC-1001-42AB-821F-4F7B39388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5E3F-91FC-41A4-B201-9FC6E7C121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A614-5810-4343-823F-E708669F2D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87F0-AB77-44F4-A5D6-54F0FFE198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AAE1-7808-4448-80F8-1729B8051A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0B01-CB9A-45F7-B78C-0D0003158C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3175-2D8F-49B9-A1E4-374F9D2E0C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06FC-40A2-40A9-B2A0-C0D20B3483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3921-364E-425A-A2CA-5F92A0A63B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B9E0-01BB-470E-A139-42A4EEA8A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825D-5BB4-49D1-9C72-53EB384B64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A82D-43E8-4D7E-905C-019ED2D5A1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B24B-EA09-4868-9383-BCDDA196E8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6C8F-08F5-45FB-9117-8E8CB2614D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C783-0CDF-4801-8AA4-5D55D8CDC9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24B1-DB30-4A0E-A04A-DC94D450C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